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9F8-6E97-409C-B111-AB3DE35B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B21-DA9C-445B-8A94-30B83B8C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20A-B5E9-4C41-A1A1-D6B2C34D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7A7-3929-462A-AD1F-8BBF05D9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E6C6-84B7-4EC7-9496-01A69960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39B9-BFB3-4D8F-870B-7CF986FE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7C2A-80A2-43FD-9416-F845DDD4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0BEC-DE37-429F-9D18-2AD1CCCD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7C09-AC87-4B56-85FD-9F32B525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FCB-469F-4DA2-87B3-0622FAF4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D9ED-7940-4F2A-8837-5A46D1B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351-AFAB-441B-9DB1-E596037D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1BDA-2E17-40AC-B06B-AC0B65A8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49B7-C90D-4F5A-944F-98D203F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CD88-293A-4B9E-B2F7-C3651CDB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3122-2B9F-4DBF-9209-D32A9BAC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7124-0313-43B5-AD00-B1075977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671-3AD6-498F-BBA9-FB63672F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1E8-F77E-45C8-8F75-D2CEA474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552-91BF-4222-93CC-F102CF76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B8D-36A0-4F1A-91CA-162751DB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0F1-4C24-491A-9214-FEB07EB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55F-C7C9-41C0-B577-016723EB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CDB-1919-491E-BECC-2536CC05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555F4F-0260-4A9A-B1F0-000E05368EF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157803-0017-40C7-9D81-F82DB1699AF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Comic Sans MS"/>
              </a:rPr>
              <a:t>REDACCIÓN DE TEXTOS ARGUMENTATIVO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s frecuente el empleo de la primera persona gramatical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yo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nosotros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, dado que se expresa una opinión prop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Predominan los sustantivos abstractos.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Uso de verbos que expresan voluntad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gustar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; verbos de dicción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deci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, y de pensamiento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cree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Con frecuencia se emplea la interrogación retóric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mpleo de adjetivos valorativos y oraciones larga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argument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6360" cy="3313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na argumentación es un texto que tiene como fin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ersuadir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al destinatario del punto de vista que se tiene sobre un asunto,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onvencerl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de la veracidad o falsedad de una teoría, aportando en ambos casos razones o argument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¿Cuándo y por qué argumentamos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textos argumentativos son de los más empleados por estudiantes, profesores, científicos, polític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argumentación es la base del cono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 sería posible concebir una sociedad democrática sin que las personas pudiéramos defender nuestras opin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enemos que saber tratar y resolver conflicto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¿Qué propiedades textuales tienen los textos argumentativos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Adecuac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s muy importante conocer el contexto comunicativo y el tipo de argumentación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las ideas planteadas y los argumentos deben estar de acuerdo con un orden lógico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s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n el texto argumentativo es donde  se hace más necesario el empleo de conectores y organizadores textual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STRUCTURA DEL TEXTO ARGUMENTATIV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2349360"/>
          <a:ext cx="8424720" cy="3418200"/>
        </p:xfrm>
        <a:graphic>
          <a:graphicData uri="http://schemas.openxmlformats.org/drawingml/2006/table">
            <a:tbl>
              <a:tblPr/>
              <a:tblGrid>
                <a:gridCol w="2664000"/>
                <a:gridCol w="2976480"/>
                <a:gridCol w="27842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I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UERPO DE LA ARGUMENTAC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CLUS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</a:tr>
              <a:tr h="26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Idea funda-mental que se defiend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Debe formular-se de forma cla-r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ción de argu-mentos para de-fender la idea planteada o refutar ideas contrarias a ell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ierre del texto, tras el razona-miento lógico de-rivado de la argu-mentación prece-dent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200"/>
            </a:br>
            <a:r>
              <a:rPr b="0" lang="es-ES" sz="2800" spc="-1" strike="noStrike">
                <a:solidFill>
                  <a:srgbClr val="feec94"/>
                </a:solidFill>
                <a:latin typeface="Comic Sans MS"/>
              </a:rPr>
              <a:t>El argumento de autoridad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85988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recurre a testimonios o citas de personas, célebres en muchos casos, o especialistas sobre el tema en cuestión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58920" y="3933720"/>
          <a:ext cx="7056360" cy="2087640"/>
        </p:xfrm>
        <a:graphic>
          <a:graphicData uri="http://schemas.openxmlformats.org/drawingml/2006/table">
            <a:tbl>
              <a:tblPr/>
              <a:tblGrid>
                <a:gridCol w="705636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egún reconocidos especialistas de nutrición de todo el mundo</a:t>
                      </a:r>
                      <a:r>
                        <a:rPr b="0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, la dieta mediterránea, basada en el consumo de frutas, verduras, pescado, y aceite de oliva, es la mejor para llevar una vida sana y equilibr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0" lang="es-ES" sz="3200" spc="-1" strike="noStrike">
                <a:solidFill>
                  <a:srgbClr val="feec94"/>
                </a:solidFill>
                <a:latin typeface="Comic Sans MS"/>
              </a:rPr>
              <a:t>El argumento de la mayorí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rgumento muy empleado en el que se recurre al sentir de la mayoría de la gente o de la socie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Todo el mundo piensa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 que la idea puede funcionar.</a:t>
            </a: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argumento de la experienc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basa en el empleo de los ejemplos, basados en la experiencia, para ilustrar lo que se quiere demostrar o de defender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Yo misma, y algunos de mis familiares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, lo hemos probado y los resultados fueron excelente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ORDEN DE LOS ARGUMENTO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vitar las divagaciones y los juegos de palab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tilizar párrafos para distribuir y organizar cada uno de los argumen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lacionar los distintos párrafos con conectores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otar el texto de unidad y sentido global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7:59:25Z</dcterms:created>
  <dc:creator>Guillermo</dc:creator>
  <dc:description/>
  <dc:language>en-US</dc:language>
  <cp:lastModifiedBy>Guillermo</cp:lastModifiedBy>
  <dcterms:modified xsi:type="dcterms:W3CDTF">2014-07-19T12:44:52Z</dcterms:modified>
  <cp:revision>12</cp:revision>
  <dc:subject/>
  <dc:title>El texto argumentativo</dc:title>
</cp:coreProperties>
</file>